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CAF-5F32-4DC6-8098-0E369F3F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20D-2329-4AE0-8315-08B40AB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521-FC44-4431-AB09-C637FDCC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394-C554-45D5-AB2B-365AD994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B5B58-ABD6-491B-AC1F-1692E193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2B7D6-F20A-4DA1-81A7-5AAC5121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7FE99-1EC7-4467-8580-CA663435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06E03-1065-46CD-8159-7AB0137F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19BFB-B919-4F44-8DFC-0430F30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DED12-D819-4D6D-983D-3BF42AA8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2D858-A2BA-46BF-8A40-582535D5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34D-F316-457C-B6E4-69EFEA01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CBF33-D876-4616-90E1-55ED114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7E9EC-C187-4221-AC6C-FA0E314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0477D-914B-4FB5-A723-721954B8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6B783-3AEC-44EE-B506-A5D54B4A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AE9BE-60B1-4E64-A3EF-3B13D044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598-1C32-4EDA-9B72-02F7CBE7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D24-8171-4A9A-BE8D-8D434785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87A-EF1F-40B7-9E7C-EA2095BC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E5F-C20A-4799-A6D6-12CCE7F7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2A8-6A2D-4E57-8E95-0D2C1F78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BE9-7B79-46DD-8864-C046FCA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57A-63AF-44D5-A95A-0ECCF69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A4F8-8BD2-4C4B-84B4-905236B6C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90F8-1BA5-48DA-8176-305A6C918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ug-rehabs.com/addiction_costofaddiction.ht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ffsidemalibu.com/interesting/economyofaddiction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56760" y="3714840"/>
            <a:ext cx="8218440" cy="2357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Autofit/>
          </a:bodyPr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Mihajlo Jakovljevi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MD, Ph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istant Professor  of  Pharmacology and Pharmaco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Facul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Medical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iences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,University of Kragujevac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Serb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iting Associate Professor of Health Economics, Faculty of Economic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sei University Tokyo, Jap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M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jan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J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vano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vi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MD, Ph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istant Professor  of Psychia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aculty of Medical Sciences,University of Kragujevac, Serb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inical Center Kragujevac, Clinic of Psychiatry, Serb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120" indent="-438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3" descr="Grb_uni"/>
          <p:cNvPicPr/>
          <p:nvPr/>
        </p:nvPicPr>
        <p:blipFill>
          <a:blip r:embed="rId1"/>
          <a:stretch/>
        </p:blipFill>
        <p:spPr>
          <a:xfrm>
            <a:off x="7885080" y="333360"/>
            <a:ext cx="988920" cy="1511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11280" y="333360"/>
            <a:ext cx="75009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Object 17"/>
          <p:cNvGraphicFramePr/>
          <p:nvPr/>
        </p:nvGraphicFramePr>
        <p:xfrm>
          <a:off x="179280" y="260280"/>
          <a:ext cx="105408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0280"/>
                    <a:ext cx="10540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116000" y="1557000"/>
            <a:ext cx="6913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600" spc="-1" strike="noStrike">
                <a:solidFill>
                  <a:srgbClr val="a50021"/>
                </a:solidFill>
                <a:latin typeface="Tahoma"/>
              </a:rPr>
              <a:t>Економија болести зависности - примери домаћих студија алкохолне детоксификације и опиоидне зависности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	</a:t>
            </a: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ahoma"/>
              </a:rPr>
              <a:t>Пораст укупних трошкова у складу са бројем болничких пријема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928800" y="2138400"/>
            <a:ext cx="71434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ahoma"/>
              </a:rPr>
              <a:t>Националне пројекције проистекле из резултата претходне студије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рема подацима Националног статистичког годишњака Института за јавно здравље Србије о преваленци тешког алкохолног конзумирања и ценама у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8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. години, аутори су израдили грубе економске процене на националном нив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Докази показују да је наша популација тзв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тешких алкохоличар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 обухвата 288600 људи или 3,9% друш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Ако претпоставимо да је наш узорак довољно репрезентативан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sr-CS" sz="1600" spc="-1" strike="noStrike">
                <a:solidFill>
                  <a:srgbClr val="000000"/>
                </a:solidFill>
                <a:latin typeface="Tahoma"/>
              </a:rPr>
              <a:t>у нашој студији није било искључујућих критеријума везаних за пол, узраст или клиничку историју зависности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долазимо до процена националних потреба за најмање 727272 хитних пријема и детоксификација годишње због акутног напитог стања као само једног од образаца злоупотребе алкох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То значи да је према проценама потребно обезбедити објекте, људске ресурс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финансије од најмањ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20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75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0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РС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9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84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11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Tahom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ahoma"/>
              </a:rPr>
              <a:t>Процене валидности и применљивости резултата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4464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Епидемиолошки и финансијски терет алкохолне зависности у Европи је огроман, а с обзиром на савремени стил живота и излагање факторима ризика, очекује се даљи ра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Наше ране процене представљају вероватно само врх леденог брега утицаја злоупотребе алкохола на укупан здравствени б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џ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Аутори су приметили велики недостатак података о трошковима болести зависности на Балка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 будућности ће бити потребна дубља истраживања индиректних трошкова проистеклих из овог медицинског проблема попут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згубљена продуктивност, апсентизма, преурањених смртних исхода и дру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тратегије за обезбеђивање доступне неге у будућности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98900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Ефикаснија здравствена нега повољнијег односа трошкови-ефективност алкохолисаних пацијената и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дуготрајна психотерапиј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Управљање установама уз значајан допринос-саветовање професионалних економис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Спровођење амбулантне детоксификације где год је могућ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Развој и финансирање специјализованих дневних центара за негу и објеката клиничког лечења зависности и злоупотребе 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3280" y="2133360"/>
            <a:ext cx="39672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  <a:ea typeface="Tahoma"/>
              </a:rPr>
              <a:t>Рестриктивна политика према доступности алкохолног пића на тржишт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  <a:ea typeface="Tahoma"/>
              </a:rPr>
              <a:t>Правне и заштитне противмере за вожњу у пијаном стањ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  <a:ea typeface="Tahoma"/>
              </a:rPr>
              <a:t>Посебан укорењен друштвени проблем - феномен бескућника алкохоличара, значајни трошкови здравствене неге, имовински губитци за породицу и пратећи трошкови криминалних радњ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  <a:ea typeface="Tahoma"/>
              </a:rPr>
              <a:t>Једна студија је експлицитно показала да пружање бесплатног смештаја за људе у тешким фазама обољења, значајно смањује улагања на дужи р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572000" y="1700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Неке од препорука СЗ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ahoma"/>
              </a:rPr>
              <a:t>Последице лечења опиоидне зависности метадонским програмом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етман зависности се последњи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6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одина обавља по савременим протоколима 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5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ржавних центара за лечење зави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положивост лекова на тржишту је скром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 недостају многе супстанце са доказано повољних коефицијентом трошков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фективнос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упренорфи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локсо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мбиновани препара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овим центрима доступан је метадонски програм одржавања з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0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ације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скуство регионалног Центра за болести зависности при терцијарном Универзитетском клиничком центру 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рагујевцу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Резултати пилот истраживања показују да се у четворогодишњем периоду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7-2010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за болничку детоксификацију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27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ацијената потрошил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97.192,72 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РСД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72.937 €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Средња цена детоксификације по пацијенту износила ј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2.282,85 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РСД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360,31 €)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годиш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Трошкови лечењ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4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ацијената на метадонском одржавању од јануар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10.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до јануара 2011 износ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.145.757,37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РСД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77.949,83 €)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9.801,55 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РСД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(285.18 €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о пацијенту годиш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Детоксификацију карактерише већи број рецидив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дуже и учесталије хоспитализације за истог пацијента, као и виши ризик смртног исхода након хоспитализације од метадонског програ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ријављени су само директни медицински трошкови неге обрачунати према званичном средњем курсу НБС у респективној годи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Цена набавк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улично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хероина за метадонску групу би износила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197,200-3.591,600 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годишње са процењеним дневним потребам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-3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и минималном ценом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€/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4400" spc="-1" strike="noStrike">
                <a:solidFill>
                  <a:srgbClr val="000000"/>
                </a:solidFill>
                <a:latin typeface="Tahoma"/>
              </a:rPr>
              <a:t>Врх леденог брега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ред трошкова директне медицинске нег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сматрано из шире друштвене перспектив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ебало би укључити и све индиректне и тз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“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едодирљив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ошкове лечења болести зави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Њих чине процењена вредност снижене радне способности и апсентизма запослени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грами социјалне помоћ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ошкови истраге имовинских и других деликата почињених од стране завис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удски трошков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рошкови спровођења кривичних санкци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затворски да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 друг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ahoma"/>
              </a:rPr>
              <a:t>Руководиоцима финансирања и управљања здравственим сектором потребне су поузданије процене</a:t>
            </a:r>
            <a:endParaRPr b="0" lang="en-US" sz="3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оритета у домену болести зависности у смислу потражње за одређеним услугама и програм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здвајати ресурсе за медицинске процедур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Засноване на докази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 ефикасности и безбед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ољног коефицијента тршкови/ефикас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хватљиве цене интервенције тј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спод нашег сопственог друштвеног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ага за плаћањ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сти је још увек у нашем систему одлучивања 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ефундацији имплицитан тј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јасно дефиниса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огући развојни правци примењене економетрије на проблеме адикције у будућности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476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Подстицање академског сектора на реализацију студија типа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ро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кови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-ефикасност / трошкови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-корисност / утицаја на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џ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ет /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ро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кови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болести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ро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кови-добит, бољим финансирањем исти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Подстицање реализације студија типа дугоро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ног математи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ког моделирања медицинских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социоекономских последица болести као јефтинијих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 мање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захтевних од клини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ких студ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Бу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ење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нтересовања индустрије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ф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инансирање студија у овом домену, уво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ењем захтева за доказима фармакоекономског типа у звани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ну регулативу приликом регистрације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овог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ека/технологије на мати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ном тр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ис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Скретање па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ње локалним резултатима истраживања Фонду РЗЗО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ресорном Министарству на потребу за пове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ћ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ана издвајања у овом доме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Acknowledgements to the institutions that financially or otherwise supported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underlying clinical trials :</a:t>
            </a:r>
            <a:r>
              <a:rPr b="0" lang="en-US" sz="35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sr-CS" sz="4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24928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aculty of Medical Sciences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, University of Kragujevac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er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opean Society for Biomedical Research on Alcoho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nical Center Kragujevac, The Psychiatr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inic, Ser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stry of Education and Science, Grant OI 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1750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кономија примењена у здравству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исциплина у развоју 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ио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ст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 Европе и Балкана од средине 90-тих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ин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а скромном применом у зв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ом регулативном оквиру ових земаљ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За сада з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јнију на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у продуктивност 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м 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љу показују Пољска, 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ска, Србија и Бугарс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дино 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ска има установљену зв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генцију за процену здравствених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хнолог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ХТ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ну расположивих доказа о односу трошкови(улагања) - клинички исходи медицинске интервенције која је предложена за рефундацију, у већини источних ЕУ чланица, земаља ЗНД и Балкана још увек врше неформалне комисије при ресорним министарствима или таква тела уопште не постоје нити су сазрели услови за њихово оснивањ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ен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струко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рисне за рационализацију здравственог б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џ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та 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развијеним привредам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ма у финансирању здравственог сектора попу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ше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47344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ENIC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erb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thodox Christian Monastery, being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ne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arliest permanent hospital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medieval Europe (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XII century A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 585 Hijri year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08000" y="11592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FOR YOUR ATTENTIO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ahoma"/>
              </a:rPr>
              <a:t>Болести зависности –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Tahoma"/>
              </a:rPr>
              <a:t>основна епидемиологија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Социоекономска посебност злоупотребе "контролисаних" супстанци са психоактивним деловањем (ПАС)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у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дносу на д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руга обољења се огледа у хрони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ној токси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ности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губитку младих људи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у р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дно најпродуктивнијем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обу 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Неки од нај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шћ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х ПАС располо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вих н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легалном 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црном тр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сту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угоисто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не Европе (транзитна рута снабдевања евроамери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ог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ржишта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ровим азијским опијатима) су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а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кохол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котин, хероин, кокаин, марихуана, амфетамини, халуциногени и разноврсна лепеза "клубских или кухињских"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рога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оје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у суви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е хетерогене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 би се обухватиле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едним фармаколо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им разре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олести зависно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знате економске последице у развијеним привредама на примеру САД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3645000"/>
          <a:ext cx="9102600" cy="2435040"/>
        </p:xfrm>
        <a:graphic>
          <a:graphicData uri="http://schemas.openxmlformats.org/drawingml/2006/table">
            <a:tbl>
              <a:tblPr/>
              <a:tblGrid>
                <a:gridCol w="1573200"/>
                <a:gridCol w="1254240"/>
                <a:gridCol w="1255680"/>
                <a:gridCol w="1253880"/>
                <a:gridCol w="1256040"/>
                <a:gridCol w="1253880"/>
                <a:gridCol w="1255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ошков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ста нарко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ев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дељ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сеч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ишњ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год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 год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риху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7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4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ка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4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9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,2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,5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о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9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0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3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,6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амфетам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8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1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,7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,5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7"/>
                    </a:solidFill>
                  </a:tcPr>
                </a:tc>
              </a:tr>
            </a:tbl>
          </a:graphicData>
        </a:graphic>
      </p:graphicFrame>
      <p:sp>
        <p:nvSpPr>
          <p:cNvPr id="95" name="TextBox 5"/>
          <p:cNvSpPr/>
          <p:nvPr/>
        </p:nvSpPr>
        <p:spPr>
          <a:xfrm>
            <a:off x="357120" y="6211800"/>
            <a:ext cx="82155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Извор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ahoma"/>
                <a:hlinkClick r:id="rId1"/>
              </a:rPr>
              <a:t>http://www.drug-rehabs.com/addiction_costofaddiction.ht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риступљен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.04.201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57120" y="1785960"/>
            <a:ext cx="8215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Наркоманија и зависност од наркотика су велики терет за друштво; процењено је да економски трошкови прелазе </a:t>
            </a: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пола трилиона долара 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годишње у САД, укључујући здравствене трошкове, трошкове повезане са криминалом и трошкове због губитка у продуктивности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Међутим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 како су ови бројеви променљиви, они пружају ограничену перспективу поражавајућих последица ових обољењ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Dr. Nora Volkow, Director, the National Institute on Drug Abuse, Congressional Testimony, 3/1/2007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ажан део проблема јесте криминогено понашање оболели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истекли деликти и друштвени напори да се то контролише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4038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Десно видимо да доследност и придржавање протоколима заснованим на психотерапијским техникама и фармакотерапији даје мерљиве објективне резулта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Лечењ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КРЕ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 је успешно и доноси смањење, не само стопе релапса епизода злоупотребе, већ и криминогеног понаш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Међу онима који су завршили третман и негу после програма, 35%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је престао да узима дрогу, 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69%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нису ухапшени у следеће три године од пуштања из затв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455112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4643280" y="5500800"/>
            <a:ext cx="45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iction research: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</a:rPr>
              <a:t> А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national imperative recommendations for the presidential transition team provided by friends of the national institute on drug abuse, November 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инансијске процене о оптерећењу САД адикцијом објављене у извештај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ИД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1386000"/>
            <a:ext cx="4506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Tahoma"/>
              </a:rPr>
              <a:t>Злоупотреба и зависност од супстанци(ПАС) су велики терет за друш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У САД код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4% 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пацијената примљених у болницу су дијагностички потврђене болести зависности и злоупотребе алкохола и 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Скоро 20% од укупних медицинских болничких трошкова, и скоро 1$ од свака 4$ повезан је са болничким трошковима неге пацијената оболелих од болести завис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појединаца у затворима редовно користи илегалне 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Зависници чине више од трећину прираста у затворској популациј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Економски терет у САД од болести зависности је дупло већи од других болести моз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00720" y="1341000"/>
            <a:ext cx="4319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Tahoma"/>
              </a:rPr>
              <a:t>Научно заснована превенција и лечење су ефикас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Истраживања су показала да сваки долар инвестиран у програм лечења зависност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дај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смањење трошкова повезаних са криминалом од 4-7$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смањење трошкова хитних медицинских интервенција за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-5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Ургентни центар и Центар за одвикавањ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код жен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смањење трошкова за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$ међу женама и децом са социјалном зашти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међу запосленим мушкарцима- за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$ повећана продуктивнос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мање изостанака и здравствених потраживањ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ahoma"/>
              </a:rPr>
              <a:t>смањење породичног насиљ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ahoma"/>
              </a:rPr>
              <a:t>Америчке националне процене оптерећења болестима зависностима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2920" y="190512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рема проценам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 Substance Abuse and Mental Health Services Administration” 276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билиона долара је потрошено или изгубљен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5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. годин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на медицинску нег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смањену продуктивн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рерурањене смртне исход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криминалне деликте и саобраћајне незгоде повезане са зависношћу од алкохола и дро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Око 75% од тог новца исплаћено је из јавних ресурс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око три четвртине ових наплата су пореклом од амерички порески обавезниц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С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7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милиона пореских обавезника у СА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то значи да сваки од њих у просеку исплаћује ок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00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zvor: h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ahoma"/>
                <a:hlinkClick r:id="rId1"/>
              </a:rPr>
              <a:t>ttp://www.cliffsidemalibu.com/interesting/economyofaddiction.htm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риступљен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16.04.201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ahoma"/>
              </a:rPr>
              <a:t>Пример објављених студија економске адикције у домаћим условима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vanovic M, Jakovljevic M, Inpatient Detoxification Procedure and Facilities: Financing Considerations from an Eastern European Perspective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cohol &amp; Alcoholism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. 44, No 6, pp. 547–554, February, 2011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kovljevic M, Jovanovic M, Nikic K, Radovanovic A, Pirkovic I, Djukic Dejanovic S and Yamada T. Inpatient detoxification and law enforcement costs following acute drinking event, in typical eastern European upper  – middle income, health care setting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alth Behavior &amp; Public Heal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2011; 1(2): 1 – 7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kovljević M, Jovanović M . Sadašnji status I troškovi lečenja opioidne zavisnosti u domaćem zdravstvenom sektoru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sihijatrija dana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12/43/2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kovljevic M, Jovanovic M, Lazic Z, Jakovljevic V, Djukic A, Velickovic R, Antunovic M. Current efforts and proposals to reduce healthcare costs in Serbia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bian Journal of Experimental and Clinical Resear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2011; 12 (4): 161-163. December 2012 , M5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kovljevic M. Pharmacoeconomic assessment based decision making in delivering health care being on the rise among Eastern European and Balkans policy makers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POR Connection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11; 17 (6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ahoma"/>
              </a:rPr>
              <a:t>Локална студија трошкова детоксификације алкохолних зависника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43280" y="4786200"/>
          <a:ext cx="4143600" cy="1962360"/>
        </p:xfrm>
        <a:graphic>
          <a:graphicData uri="http://schemas.openxmlformats.org/drawingml/2006/table">
            <a:tbl>
              <a:tblPr/>
              <a:tblGrid>
                <a:gridCol w="3094200"/>
                <a:gridCol w="227160"/>
                <a:gridCol w="822240"/>
              </a:tblGrid>
              <a:tr h="24624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- Drug acquisition cos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 Psychotherapy techniq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- Hospital admissi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consultations include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- Therapeutic intervention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excluding pharmacotherap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- Consuma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- Law enforcement expen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62640" y="1928880"/>
            <a:ext cx="4224240" cy="2571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214200" y="1928880"/>
            <a:ext cx="4226040" cy="478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8"/>
          <p:cNvSpPr/>
          <p:nvPr/>
        </p:nvSpPr>
        <p:spPr>
          <a:xfrm>
            <a:off x="7236000" y="4869000"/>
            <a:ext cx="1512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rix of direct medical and law enforcement expenses measured on our population sample of alcoholic addicts (379 patients) during one year follow-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1:21:33Z</dcterms:created>
  <dc:creator>User</dc:creator>
  <dc:description/>
  <dc:language>en-US</dc:language>
  <cp:lastModifiedBy>Minja</cp:lastModifiedBy>
  <dcterms:modified xsi:type="dcterms:W3CDTF">2017-01-31T00:28:09Z</dcterms:modified>
  <cp:revision>191</cp:revision>
  <dc:subject/>
  <dc:title>МЕДИЦИНСКИ ФАКУЛТЕТ УНИВЕРЗИТЕТA  У  КРАГУЈЕВЦУ  ДОКТОРСКА  ДИСЕРТАЦИЈА</dc:title>
</cp:coreProperties>
</file>